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9E6B-CE62-49AA-860A-6B1D9749C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17E0-341A-41CF-8759-1483B6632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7E83-46C3-434E-B3DB-D7569462A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6805-E28E-4679-B854-F94B85700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9158-F23A-427B-AE59-AB0B7CD79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625C-43C1-447B-A323-706AC7440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FB92-FBE3-409C-B275-572CE7565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4742-6DE7-47D5-94EB-C51182635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8B17-6C45-4329-8C68-2D40FFB67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2515-49A2-4EB7-9C73-4F5608A6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FE74-FDA6-4FDF-9A11-FC8558E8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478A-8E15-45DD-80DA-FE07EB56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73C2F-86C9-4878-8876-81D378F3E6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medicine/article?id=10.1371/journal.pmed.1001396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80880" y="863640"/>
            <a:ext cx="9296640" cy="5486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ure 2. Syphilis seropositivity among antenatal care attendees reported by countries through the WHO HIV Universal Access reporting system in 2008 or 2009, and regional median for non-reporting countr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man L, Kamb M, Hawkes S, Gomez G, Say L, et al. (2013) Global Estimates of Syphilis in Pregnancy and Associated Adverse Outcomes: Analysis of Multinational Antenatal Surveillance Data. PLOS Medicine 10(2): e1001396. https://doi.org/10.1371/journal.pmed.10013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medicine/article?id=10.1371/journal.pmed.10013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880240" y="7188120"/>
            <a:ext cx="4114800" cy="5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