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AD3B-3E6E-4600-AF39-F6E2BD2D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95FE-0874-4D03-AAD4-7A7A4971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5446-A11C-4029-806B-A574338E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7355-7E23-4FC1-9FEB-DF05EC0C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0BD7-4C91-4953-B5AA-3DA043BC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4B81-99EA-401C-9D9A-C6C3A1CE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A444-F0CF-477B-95E2-A7B8BA9A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447F-FCF4-451A-80A9-84197AE1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186C-7260-4383-A68F-3D77F997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808F-3967-4586-8FF9-DE4B9ECF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5540-873E-4B4E-8080-2A507D4C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B365-FDD4-4098-9AAF-939AED58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5E88-9415-41D9-87DF-49CBF148A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medicine/article?id=10.1371/journal.pmed.100139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863640"/>
            <a:ext cx="929664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2. Syphilis seropositivity among antenatal care attendees reported by countries through the WHO HIV Universal Access reporting system in 2008 or 2009, and regional median for non-reporting count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man L, Kamb M, Hawkes S, Gomez G, Say L, et al. (2013) Global Estimates of Syphilis in Pregnancy and Associated Adverse Outcomes: Analysis of Multinational Antenatal Surveillance Data. PLOS Medicine 10(2): e1001396. https://doi.org/10.1371/journal.pmed.10013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medicine/article?id=10.1371/journal.pmed.10013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880240" y="7188120"/>
            <a:ext cx="41148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