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A71-A277-4050-96D2-3703F776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67A0-C3D7-4508-9D7E-60D8F127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4CE-34E1-4E1A-ABB3-3B6668DC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D333-F5F7-46EE-AAF1-0BDC6BF5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9DA-3D1A-4E65-A7B3-7E4BD7A9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96C1-BD30-4001-85E8-00C2F85C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37B-AD6A-4344-A941-1CA5682C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5B4-5EF5-4896-B129-C3776F26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33B-63A9-4589-8151-E4660E2D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8D6-9740-4F0F-A822-79BDC29A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700B-94AC-4DAD-AE2F-3A9253F3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EF7-5BF4-4807-8ABE-4368CA5F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E2BA-C7F3-4E2A-962C-BBE502CC8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medicine/article?id=10.1371/journal.pmed.100139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46120" y="863640"/>
            <a:ext cx="896616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. Flowchart of model to estimate number of adverse outcomes associated with syphilis in pregna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man L, Kamb M, Hawkes S, Gomez G, Say L, et al. (2013) Global Estimates of Syphilis in Pregnancy and Associated Adverse Outcomes: Analysis of Multinational Antenatal Surveillance Data. PLOS Medicine 10(2): e1001396. https://doi.org/10.1371/journal.pmed.10013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medicine/article?id=10.1371/journal.pmed.10013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