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098-01A4-4EB9-BE55-2B9136B5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116-50FE-4056-AD75-09075A6C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143-21C4-41C5-9C1F-E7830AE9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670C-2B82-4A6F-9E92-164DC60A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61A-48C2-4A0B-8E32-E31E364E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DAD-2D6D-47F4-B76D-B067D841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E534-2C23-4254-A9F6-B28AEEB6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341-8601-47BB-BF42-6029B0C8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3B4-D30E-4C46-AB42-170A482C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DFDE-C0F8-4AE2-B89F-030E121A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5B7-40C1-43C5-A465-27E1DC0B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FA65-9A15-40EF-A3DA-0E48CF97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15D8-DB7A-4699-BFA9-9A4AF44D0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medicine/article?id=10.1371/journal.pmed.100139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46120" y="863640"/>
            <a:ext cx="896616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. Flowchart of model to estimate number of adverse outcomes associated with syphilis in pregna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man L, Kamb M, Hawkes S, Gomez G, Say L, et al. (2013) Global Estimates of Syphilis in Pregnancy and Associated Adverse Outcomes: Analysis of Multinational Antenatal Surveillance Data. PLOS Medicine 10(2): e1001396. https://doi.org/10.1371/journal.pmed.10013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medicine/article?id=10.1371/journal.pmed.10013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880240" y="7188120"/>
            <a:ext cx="411480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