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22DC-8730-444E-8028-401575BB7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DF96-DEEE-4E0C-923C-388D0253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501E-C316-465E-98E3-C2987D457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A074-4F4C-4004-A34E-5AB28EBA6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AC2A-85D8-4C62-A166-47F0975F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ADBD-883F-40D5-8FD3-A360F8E1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ABFA-77A0-4F53-BB05-F3989DCB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14B4-9B80-49AA-A794-F213F961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51A1-B833-4FCA-A68D-21862076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877F-E5BE-4DCA-A55D-D2A1930D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F0B7-9182-4380-A7F5-A366D51A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BC18-7BC3-45B8-A961-D735FD0A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5C82-AB4E-4153-B6CC-95956F8FB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medicine/article?id=10.1371/journal.pmed.0050066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760" y="1409760"/>
            <a:ext cx="9524880" cy="4381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zzati M, Friedman AB, Kulkarni SC, Murray CJL (2008) The Reversal of Fortunes: Trends in County Mortality and Cross-County Mortality Disparities in the United States. PLOS Medicine 5(4): e66. https://doi.org/10.1371/journal.pmed.00500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medicine/article?id=10.1371/journal.pmed.00500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880240" y="7188120"/>
            <a:ext cx="411480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