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044-C64D-46FF-90DE-C4DBC2FA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D50-6B45-420D-92B0-D6231CB1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81B-B95E-4067-99CD-FDE70B1F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2A7-D37A-4E32-85DF-673343F1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388-FB0E-4E84-BF72-40AD3FC0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3565-E12E-43D4-B1F7-573B81BD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775-3FE2-48E8-8AE6-5C2C4DF3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74E-1D6B-4B26-B950-42033334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0176-2C4B-48DB-BDC3-F68871A9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5B2-CB6D-450B-9684-D47BEFA5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ECF-DAB2-40CD-BE3C-CCB25427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01F-D722-46BA-910E-04E35C42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284B-B63A-4E62-8276-41EB136B3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005006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070000"/>
            <a:ext cx="9524880" cy="3073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zzati M, Friedman AB, Kulkarni SC, Murray CJL (2008) The Reversal of Fortunes: Trends in County Mortality and Cross-County Mortality Disparities in the United States. PLOS Medicine 5(4): e66. https://doi.org/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0050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