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285-F0F7-4B5E-9209-68341266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D9F-7DC7-444A-9FFE-1274A797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4DD-83BA-4056-A8C3-043024E3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37F-0F6D-4439-9571-F9D786D1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DD1-4C84-483C-ACF2-289C05B5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DFD-2AFA-440A-B9A0-81EF9EA5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8E3-357F-47BB-83B2-1176F42E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ED5-4A60-4B98-A9F5-E2032105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F28-926D-494C-897C-B76E02D3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728-810C-4210-8612-762E6D5E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681-EBAB-4C67-9274-D1682312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647-47B4-4271-A1E3-2191F4E9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CE95-6573-444E-9397-212ABB831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005006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070000"/>
            <a:ext cx="9524880" cy="3073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zzati M, Friedman AB, Kulkarni SC, Murray CJL (2008) The Reversal of Fortunes: Trends in County Mortality and Cross-County Mortality Disparities in the United States. PLOS Medicine 5(4): e66. https://doi.org/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