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B54E7-11C6-401E-B7AB-155E6EA00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8BEAB-32DB-44B0-BABE-1C69BA517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B0D86-12C2-460F-8A50-9170D107E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ACE12-09BA-48AE-B036-1587604BB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F3FF3-825D-4FD1-96CC-FE8B30B75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07985-14FA-499D-8FC8-643A82BEE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975DF-9452-485A-87C5-62BE1CF8C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D9A55-6FE5-4576-8571-2A655DF64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D00BF-167D-49DC-9D75-5471D476C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D1F85-24B6-4F74-8DC4-0631D5152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F7446-E3B0-4469-B600-EAA0F9307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4EF02-CEBE-4E0A-B014-95F3FDA4D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1EFD-9CF5-499F-968B-F66E7D67EC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medicine/article?id=10.1371/journal.pmed.0050066"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24160" y="863640"/>
            <a:ext cx="5397480" cy="5486400"/>
          </a:xfrm>
          <a:prstGeom prst="rect">
            <a:avLst/>
          </a:prstGeom>
          <a:ln w="0">
            <a:noFill/>
          </a:ln>
        </p:spPr>
      </p:pic>
      <p:sp>
        <p:nvSpPr>
          <p:cNvPr id="42" name="PlaceHolder 1"/>
          <p:cNvSpPr>
            <a:spLocks noGrp="1"/>
          </p:cNvSpPr>
          <p:nvPr>
            <p:ph type="title"/>
          </p:nvPr>
        </p:nvSpPr>
        <p:spPr>
          <a:xfrm>
            <a:off x="355680" y="279360"/>
            <a:ext cx="9360000" cy="82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4. Change in Probability of Dying in Specific Age Ranges between 1961 and 1983 and between 1983 and 1999, with Counties Grouped on the Basis of the Level of Change in Life Expectancy as in Figure 3</a:t>
            </a:r>
            <a:endParaRPr b="0" lang="en-US" sz="1600" spc="-1" strike="noStrike">
              <a:solidFill>
                <a:srgbClr val="000000"/>
              </a:solidFill>
              <a:latin typeface="Arial"/>
            </a:endParaRPr>
          </a:p>
        </p:txBody>
      </p:sp>
      <p:sp>
        <p:nvSpPr>
          <p:cNvPr id="43" name=""/>
          <p:cNvSpPr/>
          <p:nvPr/>
        </p:nvSpPr>
        <p:spPr>
          <a:xfrm>
            <a:off x="444600" y="6515280"/>
            <a:ext cx="9182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zati M, Friedman AB, Kulkarni SC, Murray CJL (2008) The Reversal of Fortunes: Trends in County Mortality and Cross-County Mortality Disparities in the United States. PLOS Medicine 5(4): e66. https://doi.org/10.1371/journal.pmed.005006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medicine/article?id=10.1371/journal.pmed.0050066</a:t>
            </a:r>
            <a:endParaRPr b="0" lang="en-US" sz="1200" spc="-1" strike="noStrike">
              <a:solidFill>
                <a:srgbClr val="000000"/>
              </a:solidFill>
              <a:latin typeface="Arial"/>
            </a:endParaRPr>
          </a:p>
        </p:txBody>
      </p:sp>
      <p:pic>
        <p:nvPicPr>
          <p:cNvPr id="44" name="" descr=""/>
          <p:cNvPicPr/>
          <p:nvPr/>
        </p:nvPicPr>
        <p:blipFill>
          <a:blip r:embed="rId3"/>
          <a:stretch/>
        </p:blipFill>
        <p:spPr>
          <a:xfrm>
            <a:off x="5880240" y="7188120"/>
            <a:ext cx="4114800" cy="5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