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EF2D-432C-4B4C-BFA0-C9F8E4F0C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CF52-CCFC-440B-8B31-F2C2890F7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8370-9489-45C1-8496-2C0E6111A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7F34-136A-476E-A37E-C5471C82E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AE82-5546-4B23-9DA0-947D74769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D182-8A8A-4BF5-B66D-342DF201F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8CC3-1291-4E5D-89B4-805DE9E80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BCB0-D97E-4A4C-984B-497BEFA37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868E-8302-49CE-BA44-E58848450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0563-3754-4401-AA5B-A8FA2DB8C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31A6-6A63-4869-8BF0-FFBCF7AF8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5C55-54D0-4DC2-AB90-B0E1D9B53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09241-FF0E-47EC-82F3-D18F257DA2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ournals.plos.org/plosmedicine/article?id=10.1371/journal.pmed.0050066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806560" y="863640"/>
            <a:ext cx="4432320" cy="5486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680" y="279360"/>
            <a:ext cx="936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ure 3. Change in County Life Expectancy in 1961–1983 and 1983–199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4600" y="6515280"/>
            <a:ext cx="9182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zzati M, Friedman AB, Kulkarni SC, Murray CJL (2008) The Reversal of Fortunes: Trends in County Mortality and Cross-County Mortality Disparities in the United States. PLOS Medicine 5(4): e66. https://doi.org/10.1371/journal.pmed.00500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journals.plos.org/plosmedicine/article?id=10.1371/journal.pmed.00500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880240" y="7188120"/>
            <a:ext cx="4114800" cy="5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