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70A-5C14-4846-AAD0-374971AE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DB2-883C-4B14-B390-716B91B4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4063-C5FE-4FB5-8E18-548AFC9A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D9C-3C77-4027-94D3-C245791E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094-800A-470D-9004-498FC81A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FE6-6DB3-4269-8C46-87787A17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3FF-FAF1-427F-82A5-5A9B56A9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E1D-262B-4D10-8A0C-DC85F06E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313-0C8F-48D9-9813-12959087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FF9-AE29-49C7-ADB5-A168AD64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AAB-242B-4DEA-991A-01D78FE4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E10-AF1F-4090-B741-C6D005F9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11DB-37C7-449F-BD38-4FC6C85B0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005006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82680" y="863640"/>
            <a:ext cx="74804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. Annual Absolute Life Expectancy Disparity between the Counties with the Highest and Lowest Life Expecta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zzati M, Friedman AB, Kulkarni SC, Murray CJL (2008) The Reversal of Fortunes: Trends in County Mortality and Cross-County Mortality Disparities in the United States. PLOS Medicine 5(4): e66. https://doi.org/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