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3889-038E-4B6C-B3EC-04A92C22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52D-2F24-423D-81D7-0112D6C4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9857-8F49-4270-97F4-5BAD524F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1E6-DEB1-452A-B41D-2A5EFD8F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C0E-10FE-4194-8774-52DCFF77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8A4-C0CD-4C0F-BF86-9886555A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04A-8435-4E32-8D85-D0B069E1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8F5-0CB4-42FE-A78F-A618E82E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F85-4561-4B7C-85A6-B10C6637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A1AD-CD44-4BE4-84A1-7F2BA422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F48-F9D2-4DE4-95FF-1005A397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729-CDB1-439B-B4C4-58DC6FC7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5426-0C84-4666-934A-2482AE8F5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medicine/article?id=10.1371/journal.pmed.005006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82680" y="863640"/>
            <a:ext cx="748044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2. Annual Absolute Life Expectancy Disparity between the Counties with the Highest and Lowest Life Expecta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zzati M, Friedman AB, Kulkarni SC, Murray CJL (2008) The Reversal of Fortunes: Trends in County Mortality and Cross-County Mortality Disparities in the United States. PLOS Medicine 5(4): e66. https://doi.org/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medicine/article?id=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