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0BE-E959-475C-82B3-383D4686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37A-5004-4BCC-BC6C-02AD3B4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B45-7294-40A3-A8FF-235F1185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F9B-4E06-4F3A-BC72-54E43B28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EC6-B680-4511-8ECE-6235B891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C20-B287-4AE2-B6F9-DFB75CC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E98-2DFD-41B5-B7F2-22FE2A1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C8A-BCCF-4BB2-9232-5B42DCC3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1C7-6389-49B5-A43B-3B5934E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A75-1518-49B2-813B-84D62D7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669-49EF-4A9C-BEBA-67CFE1C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392-A22A-437D-8DDD-1AC15B3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02CF-7808-487D-BD7F-DA45DCA1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1360" y="863640"/>
            <a:ext cx="8635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SD of Life Expectancies of the 2,068 County Units in the United States by S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