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1D5-A9D2-455D-A212-23AEDF28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543-BBE6-4C06-9CAB-BAF1ACA4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A49-1AB5-41BD-BA83-AD02BA6E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6CF-A649-495D-B8AA-3A001AF5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932-CAA3-4192-9BB6-704A3CEE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8B0-3FC4-4494-9268-9B4B8EFB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443-1896-4C4E-8235-315258F9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E05-54EA-427A-AA15-531EC880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F77-A9DD-45D3-BC04-99887E19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FBE-877E-477C-959F-9E23D67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DAD-5164-4903-84DB-48CA270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B91-190E-47EE-A68D-1021858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3108-6C64-4955-892C-C1CECB07D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1360" y="863640"/>
            <a:ext cx="86356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SD of Life Expectancies of the 2,068 County Units in the United States by S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