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6D7-E3F9-48C0-A770-9671D499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0D2-838E-4F7A-BF61-EDC40A70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C5E-CAF3-4795-9A50-902F1B38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0E1-67C3-451A-BEE5-F463E912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C8A-9FDC-455C-955F-E0126CD6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9F0-42EF-42FF-BEDB-5D6EEF65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477-0AF6-426A-AA4C-98AE0B7A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2CB-0C70-4F0C-89C4-62B2CDD7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B02-6DCB-4D0F-BEC6-2ECA89F8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20C-4495-42D8-A29F-24D31214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F21-7775-4628-B9CA-8E937C00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97E-18CC-436C-A0BB-08279AA7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4C51-2E9C-44F6-B913-875615FD5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biology/article?id=10.1371/journal.pbio.100008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8840" y="863640"/>
            <a:ext cx="82807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4. Period Changes (+ SEM) Observed in the Free-Running Rhythm of Wild-Type and Control Flies and Fly Strains with Manipulated CRY after Application of a Magnetic Field (300 μT) and Blue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shii T, Ahmad M, Helfrich-Förster C (2009) Cryptochrome Mediates Light-Dependent Magnetosensitivity of Drosophila's Circadian Clock. PLOS Biology 7(4): e1000086. https://doi.org/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biology/article?id=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