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2F8-49C4-4B11-BCE1-5E1D9AB9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1FB-439B-49FD-AFE4-F5DE663F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948-CDC0-4A69-8B49-CA9559D9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18F-D56A-4352-8DAB-1F00F01F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5A7-E495-41FC-BE2D-37271933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98D-F882-406E-B842-22613BE8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4D2-7EFD-4733-83F1-2300E591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B7A-F596-4A9D-AB3C-3781BDD5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1FF-5723-4DC4-86F7-BFCD9713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84C-6F0E-4918-B97E-D894DF6B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C25-25FB-4C6B-A4B5-A7D69CF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D32-3159-458F-B167-5DDD703E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9414-99E8-4C59-812E-AE42ACE5E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biology/article?id=10.1371/journal.pbio.100008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8840" y="863640"/>
            <a:ext cx="82807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4. Period Changes (+ SEM) Observed in the Free-Running Rhythm of Wild-Type and Control Flies and Fly Strains with Manipulated CRY after Application of a Magnetic Field (300 μT) and Blue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shii T, Ahmad M, Helfrich-Förster C (2009) Cryptochrome Mediates Light-Dependent Magnetosensitivity of Drosophila's Circadian Clock. PLOS Biology 7(4): e1000086. https://doi.org/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biology/article?id=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