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E54-EBC5-4363-A5FB-C79214EE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4E2-2E67-4C5B-8DC2-85FF036C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964-4187-429E-8C5A-51ECEBB0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EF7-427A-439C-A1AB-9C928EAB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A23-0490-41F3-A1BD-7A522DD2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171-2717-443A-A857-496A3068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18F-FF2F-488B-B7A1-55DA896A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E4E-B799-434F-9C92-9B21F7E7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B87-C3E1-4E41-A4E1-1D465951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C7E-85EE-4FDE-9F51-7CBE261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854-2675-4FC1-867A-5945D5D8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30E-AC01-4161-8FEA-BF224501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73AE-F5B8-4BF9-AC0A-B9ADC6FE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biology/article?id=10.1371/journal.pbio.100008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990720"/>
            <a:ext cx="9524880" cy="521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3. Period Changes (+ SEM) Observed in the Free-Running Rhythm of Wild-Type Flies after Application of Magnetic Fields under Blue Light and Red Light Illu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shii T, Ahmad M, Helfrich-Förster C (2009) Cryptochrome Mediates Light-Dependent Magnetosensitivity of Drosophila's Circadian Clock. PLOS Biology 7(4): e1000086. https://doi.org/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biology/article?id=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