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124-9E17-43C8-A57B-6F94CC03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4E4-064A-46CB-B772-49E18B49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2D3-47C3-47ED-870B-910F6859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EBF-B433-4649-A924-BEA7C804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4CC-D716-465F-A205-EB104537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A2EE-892D-42EB-AE05-8480331B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7C6-BB4E-44DC-8BDE-B53D54BD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D9AD-A322-4D31-BA38-CF5327A6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C9D-D35F-4F31-9DDC-33DEA780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925-D9E5-4E8A-B302-8493B547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B79-1C8C-4F26-9E92-39875F47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9AE-3E24-411C-87F6-42B5E3AB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6D53-59CB-4097-8F85-CE92F4D18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biology/article?id=10.1371/journal.pbio.100008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73400" y="863640"/>
            <a:ext cx="55116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. Representative Free-Running Locomotor Rhythms before and during the Exposure to a Magnetic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shii T, Ahmad M, Helfrich-Förster C (2009) Cryptochrome Mediates Light-Dependent Magnetosensitivity of Drosophila's Circadian Clock. PLOS Biology 7(4): e1000086. https://doi.org/10.1371/journal.pbio.1000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biology/article?id=10.1371/journal.pbio.1000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