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669-B43D-4EEA-A0AD-D6AF2572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945-80D3-492E-A32C-6ACDCFC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28B-A27B-42AA-8B35-D5160D00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221-E2B4-4C7A-BC56-0D99CE62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559-BDAB-49C4-9C65-87EF2630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DEF-42A5-463A-BB0F-CC394A6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28C-5FCB-4AA1-AF0D-18DE386D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064-D759-4196-AED1-FD0DC63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621-DD15-40BE-9929-55189C3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214-0628-4B02-AD47-563FAB0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1FA-12D9-43B8-8415-2B8D8F2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372-544C-4186-A609-714FB8D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F6C8-A774-4E99-A7DE-ED50C5DE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biology/article?id=10.1371/journal.pbio.100008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863640"/>
            <a:ext cx="57909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Schematic Representation of the Experimental Appar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shii T, Ahmad M, Helfrich-Förster C (2009) Cryptochrome Mediates Light-Dependent Magnetosensitivity of Drosophila's Circadian Clock. PLOS Biology 7(4): e1000086. https://doi.org/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biology/article?id=10.1371/journal.pbio.1000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